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0FB9-B2E8-423E-BC99-4D754C8D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BE4C-C7E5-4E2B-A6CA-EEFCEFB4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ED26-DE9A-4FBB-9965-470F0D54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B2C2-D2E7-45E3-8B8F-7A8321AD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6E4B-9B7A-447A-AD70-92B26535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8C50-5C97-4532-A42F-24854C41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2119-203C-4116-AA49-2D529A95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7519-F054-4838-BE11-79F0B323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AA29-AE8F-44DF-92B7-5B9FDBAB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9723-7AA1-4682-BB4D-0565F721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4165-4FFC-4156-8A22-3430CD5C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67C8-B889-4715-9CFA-DB75087B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34C0-155A-4910-80AE-432E309E7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 Clase 801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1 de mayo del 20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o # 78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omo continuamos el repaso para el examen del Captiulo 8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0a0"/>
                </a:solidFill>
                <a:latin typeface="Arial"/>
              </a:rPr>
              <a:t>L.O: to continue reviewing for the Unit Ex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rcRect l="17274" t="23728" r="17953" b="28546"/>
          <a:stretch/>
        </p:blipFill>
        <p:spPr>
          <a:xfrm>
            <a:off x="457200" y="3220920"/>
            <a:ext cx="789768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rcRect l="8296" t="-359" r="17956" b="15546"/>
          <a:stretch/>
        </p:blipFill>
        <p:spPr>
          <a:xfrm>
            <a:off x="76320" y="228600"/>
            <a:ext cx="8991360" cy="646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7552800" y="3048120"/>
            <a:ext cx="1020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5662080" y="4948200"/>
            <a:ext cx="1739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 Antho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339480" y="1442880"/>
            <a:ext cx="8050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ia y completa con la palabra de vocabulario appropi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rcRect l="12500" t="5003" r="12500" b="23728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207000" y="1442880"/>
            <a:ext cx="7605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a con la forma correcta del verbo en el pretér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7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REPASO GRAMATICAL DEL CAPITULO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14:30:58Z</dcterms:created>
  <dc:creator>Helen Zumaeta</dc:creator>
  <dc:description/>
  <dc:language>en-US</dc:language>
  <cp:lastModifiedBy>Helen Zumaeta</cp:lastModifiedBy>
  <cp:lastPrinted>2016-05-11T17:30:39Z</cp:lastPrinted>
  <dcterms:modified xsi:type="dcterms:W3CDTF">2016-05-11T20:03:41Z</dcterms:modified>
  <cp:revision>15</cp:revision>
  <dc:subject/>
  <dc:title>Me llamo _______ Clase 8 im La fecha es el 18 de enero del 2013</dc:title>
</cp:coreProperties>
</file>